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8741-333F-4B5B-B00F-30447CB1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6A9D-E342-4D98-B04E-E733B5A1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337-E2FC-4B55-8E74-6A9E1EEB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14C-4441-469B-85D1-D4E770A4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95D-2F2A-49E9-B000-081E5576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78A-F18C-409A-B668-1C1F8163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F5DE-36F3-4893-BC36-102D7E65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08BB-509D-4547-8750-0F6F916C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5CF1-CD1A-4C4D-B7CB-9ABB85B3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702-CC0B-478B-B12A-4FF557B7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330-F318-4E24-8A3F-EFE2D03E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9EA0-5F64-449D-A675-D005684F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7428-EA05-4584-AAA1-46F5F4D7D27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dswxl@mail.sysu.edu.cn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981000"/>
            <a:ext cx="7569360" cy="309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黑体"/>
              </a:rPr>
              <a:t>病理生理学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  <a:ea typeface="黑体"/>
              </a:rPr>
              <a:t>》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Pathophysiology</a:t>
            </a:r>
            <a:r>
              <a:rPr b="1" i="1" lang="zh-CN" sz="4400" spc="-1" strike="noStrike">
                <a:solidFill>
                  <a:srgbClr val="000000"/>
                </a:solidFill>
                <a:latin typeface="Verdana"/>
              </a:rPr>
              <a:t>）</a:t>
            </a:r>
            <a:br>
              <a:rPr sz="4400"/>
            </a:br>
            <a:r>
              <a:rPr b="1" lang="zh-CN" sz="4400" spc="-1" strike="noStrike">
                <a:solidFill>
                  <a:srgbClr val="003366"/>
                </a:solidFill>
                <a:latin typeface="Verdana"/>
                <a:ea typeface="黑体"/>
              </a:rPr>
              <a:t>第十三章  休克</a:t>
            </a:r>
            <a:br>
              <a:rPr sz="4400"/>
            </a:b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黑体"/>
              </a:rPr>
              <a:t>Shock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黑体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4653000"/>
            <a:ext cx="644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中山大学  中山医学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汪雪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mdswxl@mail.sysu.edu.c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4"/>
          <p:cNvSpPr/>
          <p:nvPr/>
        </p:nvSpPr>
        <p:spPr>
          <a:xfrm>
            <a:off x="611280" y="3005280"/>
            <a:ext cx="8001000" cy="12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Verdana"/>
                <a:ea typeface="黑体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黑体"/>
              </a:rPr>
              <a:t>第一节   病因和分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黑体"/>
              </a:rPr>
              <a:t>第二节   发生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黑体"/>
              </a:rPr>
              <a:t>第三节   机体代谢与功能变化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  <a:ea typeface="黑体"/>
              </a:rPr>
              <a:t>第四节  几种常见休克的特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  <a:ea typeface="黑体"/>
              </a:rPr>
              <a:t>第五节  多器官功能障碍综合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  <a:ea typeface="黑体"/>
              </a:rPr>
              <a:t>第六节  防治的病理生理基础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4000" y="1628280"/>
            <a:ext cx="8135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4240" indent="-3542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一、休克的病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54240" indent="-3542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（一）失血和失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4240" indent="-3542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（二）烧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4240" indent="-3542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（三）创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4240" indent="-3542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（四）感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4240" indent="-3542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（五）过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4240" indent="-3542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（六）心脏功能障碍     心力衰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54240" indent="-3542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（七）强烈的神经刺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标题 4"/>
          <p:cNvSpPr/>
          <p:nvPr/>
        </p:nvSpPr>
        <p:spPr>
          <a:xfrm>
            <a:off x="61128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黑体"/>
                <a:ea typeface="黑体"/>
              </a:rPr>
              <a:t>第一节  病因和分类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76720" y="2205000"/>
            <a:ext cx="363852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Verdana"/>
                <a:ea typeface="黑体"/>
              </a:rPr>
              <a:t>二、休克的分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0" y="1699920"/>
            <a:ext cx="9072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黑体"/>
              </a:rPr>
              <a:t>（一）按病因分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黑体"/>
              </a:rPr>
              <a:t>失血性休克、烧伤性休克、感染性休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黑体"/>
              </a:rPr>
              <a:t>         </a:t>
            </a:r>
            <a:r>
              <a:rPr b="1" lang="zh-CN" sz="3000" spc="-1" strike="noStrike">
                <a:solidFill>
                  <a:srgbClr val="003366"/>
                </a:solidFill>
                <a:latin typeface="Verdana"/>
                <a:ea typeface="黑体"/>
              </a:rPr>
              <a:t>过敏性休克、心源性休克、神经源性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黑体"/>
              </a:rPr>
              <a:t>（二）按休克的始动环节分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Verdana"/>
                <a:ea typeface="黑体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黑体"/>
              </a:rPr>
              <a:t>、低血容量性休克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hypovolemic shock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失血性、失液性休克、创伤性休克、烧伤性休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Verdana"/>
                <a:ea typeface="黑体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黑体"/>
              </a:rPr>
              <a:t>、血管源性休克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vasogenic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黑体"/>
              </a:rPr>
              <a:t>shock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过敏性、高动力型感染性、神经源性休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  <a:ea typeface="黑体"/>
              </a:rPr>
              <a:t>    </a:t>
            </a:r>
            <a:r>
              <a:rPr b="1" lang="en-US" sz="3200" spc="-1" strike="noStrike">
                <a:solidFill>
                  <a:srgbClr val="003366"/>
                </a:solidFill>
                <a:latin typeface="Verdana"/>
                <a:ea typeface="黑体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黑体"/>
              </a:rPr>
              <a:t>、心源性休克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心肌源性休克，非心肌源性休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1405440" y="6081840"/>
            <a:ext cx="34358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rdiogenic shoc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74880" y="476280"/>
            <a:ext cx="77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黑体"/>
                <a:ea typeface="黑体"/>
              </a:rPr>
              <a:t>二、休克的分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1104840" y="1413000"/>
            <a:ext cx="2436840" cy="52056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黑体"/>
              </a:rPr>
              <a:t>失血与失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104840" y="2124000"/>
            <a:ext cx="2436840" cy="52056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黑体"/>
              </a:rPr>
              <a:t>烧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1104840" y="2835360"/>
            <a:ext cx="2436840" cy="52056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黑体"/>
              </a:rPr>
              <a:t>创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1104840" y="4257720"/>
            <a:ext cx="2436840" cy="52056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黑体"/>
              </a:rPr>
              <a:t>感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1104840" y="3546360"/>
            <a:ext cx="2436840" cy="52056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黑体"/>
              </a:rPr>
              <a:t>过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1042920" y="4968720"/>
            <a:ext cx="2521080" cy="52056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黑体"/>
              </a:rPr>
              <a:t>强烈神经刺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5680080"/>
            <a:ext cx="3097440" cy="520560"/>
          </a:xfrm>
          <a:prstGeom prst="rect">
            <a:avLst/>
          </a:prstGeom>
          <a:noFill/>
          <a:ln w="28440">
            <a:solidFill>
              <a:srgbClr val="a3b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黑体"/>
              </a:rPr>
              <a:t>心脏和大血管病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1916280"/>
            <a:ext cx="2592360" cy="58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黑体"/>
              </a:rPr>
              <a:t>低血容量性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6227640" y="3541680"/>
            <a:ext cx="2665440" cy="5814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黑体"/>
              </a:rPr>
              <a:t>血管源性休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6259680" y="5589720"/>
            <a:ext cx="2489040" cy="581400"/>
          </a:xfrm>
          <a:prstGeom prst="rect">
            <a:avLst/>
          </a:prstGeom>
          <a:noFill/>
          <a:ln w="284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黑体"/>
              </a:rPr>
              <a:t>心源性休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564000" y="1662120"/>
            <a:ext cx="2520720" cy="1335240"/>
            <a:chOff x="3564000" y="1662120"/>
            <a:chExt cx="2520720" cy="1335240"/>
          </a:xfrm>
        </p:grpSpPr>
        <p:sp>
          <p:nvSpPr>
            <p:cNvPr id="144" name=""/>
            <p:cNvSpPr/>
            <p:nvPr/>
          </p:nvSpPr>
          <p:spPr>
            <a:xfrm>
              <a:off x="3564000" y="1662120"/>
              <a:ext cx="14493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64000" y="2294640"/>
              <a:ext cx="252072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64000" y="2997360"/>
              <a:ext cx="144936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13360" y="1662120"/>
              <a:ext cx="0" cy="13352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564000" y="2508120"/>
            <a:ext cx="2592000" cy="2743200"/>
            <a:chOff x="3564000" y="2508120"/>
            <a:chExt cx="2592000" cy="2743200"/>
          </a:xfrm>
        </p:grpSpPr>
        <p:sp>
          <p:nvSpPr>
            <p:cNvPr id="149" name=""/>
            <p:cNvSpPr/>
            <p:nvPr/>
          </p:nvSpPr>
          <p:spPr>
            <a:xfrm>
              <a:off x="5508360" y="2508120"/>
              <a:ext cx="0" cy="274320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64000" y="2508120"/>
              <a:ext cx="2592000" cy="2743200"/>
              <a:chOff x="3564000" y="2508120"/>
              <a:chExt cx="2592000" cy="2743200"/>
            </a:xfrm>
          </p:grpSpPr>
          <p:sp>
            <p:nvSpPr>
              <p:cNvPr id="151" name=""/>
              <p:cNvSpPr/>
              <p:nvPr/>
            </p:nvSpPr>
            <p:spPr>
              <a:xfrm>
                <a:off x="3564000" y="2508120"/>
                <a:ext cx="19443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564000" y="3193920"/>
                <a:ext cx="19443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64000" y="3879720"/>
                <a:ext cx="19443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64000" y="4565520"/>
                <a:ext cx="19443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508360" y="3879720"/>
                <a:ext cx="64764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693240" y="5251320"/>
                <a:ext cx="1814760" cy="0"/>
              </a:xfrm>
              <a:prstGeom prst="line">
                <a:avLst/>
              </a:prstGeom>
              <a:ln w="2844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4211640" y="5950080"/>
            <a:ext cx="2016000" cy="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11280" y="1628280"/>
            <a:ext cx="813744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一、微循环机制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微循环（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黑体"/>
              </a:rPr>
              <a:t>microcirculation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）：是指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微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黑体"/>
              </a:rPr>
              <a:t>A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与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微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黑体"/>
              </a:rPr>
              <a:t>V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之间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微血管的血液循环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，是血液与组织进行物质交换的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基本结构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最小功能单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标题 4"/>
          <p:cNvSpPr/>
          <p:nvPr/>
        </p:nvSpPr>
        <p:spPr>
          <a:xfrm>
            <a:off x="539640" y="189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060"/>
                </a:solidFill>
                <a:latin typeface="黑体"/>
                <a:ea typeface="黑体"/>
              </a:rPr>
              <a:t>第二节 发生机制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835280" y="4221000"/>
            <a:ext cx="57150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345440" cy="4897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53964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正常微循环组成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1187280" y="1844640"/>
            <a:ext cx="71298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黑体"/>
              </a:rPr>
              <a:t>七个部分，三条通路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直捷通路、动静脉短路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迂回通路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真毛细血管通路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151400" y="749520"/>
            <a:ext cx="1362960" cy="693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. 16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黑体"/>
              </a:rPr>
              <a:t>毛细血管灌流的局部反馈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7" name="组合 23"/>
          <p:cNvGrpSpPr/>
          <p:nvPr/>
        </p:nvGrpSpPr>
        <p:grpSpPr>
          <a:xfrm>
            <a:off x="360360" y="1881360"/>
            <a:ext cx="8280360" cy="4061880"/>
            <a:chOff x="360360" y="1881360"/>
            <a:chExt cx="8280360" cy="4061880"/>
          </a:xfrm>
        </p:grpSpPr>
        <p:sp>
          <p:nvSpPr>
            <p:cNvPr id="168" name="Rectangle 2"/>
            <p:cNvSpPr/>
            <p:nvPr/>
          </p:nvSpPr>
          <p:spPr>
            <a:xfrm>
              <a:off x="360360" y="1898640"/>
              <a:ext cx="2881440" cy="98244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Cap</a:t>
              </a: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前括约肌与后微动脉收缩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Text Box 3"/>
            <p:cNvSpPr/>
            <p:nvPr/>
          </p:nvSpPr>
          <p:spPr>
            <a:xfrm>
              <a:off x="3168720" y="209232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→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"/>
            <p:cNvSpPr/>
            <p:nvPr/>
          </p:nvSpPr>
          <p:spPr>
            <a:xfrm>
              <a:off x="3510000" y="228924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Rectangle 5"/>
            <p:cNvSpPr/>
            <p:nvPr/>
          </p:nvSpPr>
          <p:spPr>
            <a:xfrm>
              <a:off x="3745080" y="1897200"/>
              <a:ext cx="2016000" cy="947160"/>
            </a:xfrm>
            <a:prstGeom prst="rect">
              <a:avLst/>
            </a:prstGeom>
            <a:noFill/>
            <a:ln cap="sq"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真</a:t>
              </a: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Cap</a:t>
              </a: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血流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减少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761080" y="2092320"/>
              <a:ext cx="71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→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7"/>
            <p:cNvSpPr/>
            <p:nvPr/>
          </p:nvSpPr>
          <p:spPr>
            <a:xfrm>
              <a:off x="6783120" y="1881360"/>
              <a:ext cx="1460880" cy="947160"/>
            </a:xfrm>
            <a:prstGeom prst="rect">
              <a:avLst/>
            </a:prstGeom>
            <a:solidFill>
              <a:srgbClr val="ffffff"/>
            </a:solidFill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局部代谢产物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及组胺堆积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Text Box 8"/>
            <p:cNvSpPr/>
            <p:nvPr/>
          </p:nvSpPr>
          <p:spPr>
            <a:xfrm>
              <a:off x="7201080" y="2887560"/>
              <a:ext cx="64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Text Box 9"/>
            <p:cNvSpPr/>
            <p:nvPr/>
          </p:nvSpPr>
          <p:spPr>
            <a:xfrm>
              <a:off x="5911560" y="3459240"/>
              <a:ext cx="2100960" cy="947160"/>
            </a:xfrm>
            <a:prstGeom prst="rect">
              <a:avLst/>
            </a:prstGeom>
            <a:noFill/>
            <a:ln cap="sq"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平滑肌对缩血管物质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的反应性下降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7201080" y="4395960"/>
              <a:ext cx="641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↓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7" name="Text Box 11"/>
            <p:cNvSpPr/>
            <p:nvPr/>
          </p:nvSpPr>
          <p:spPr>
            <a:xfrm>
              <a:off x="1458720" y="28875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↑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Rectangle 12"/>
            <p:cNvSpPr/>
            <p:nvPr/>
          </p:nvSpPr>
          <p:spPr>
            <a:xfrm>
              <a:off x="5905440" y="4924440"/>
              <a:ext cx="2735280" cy="947160"/>
            </a:xfrm>
            <a:prstGeom prst="rect">
              <a:avLst/>
            </a:prstGeom>
            <a:noFill/>
            <a:ln cap="sq"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Cap</a:t>
              </a: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前括约肌</a:t>
              </a:r>
              <a:br>
                <a:rPr sz="2800"/>
              </a:b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与后微动脉舒张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3386160" y="4924440"/>
              <a:ext cx="2089080" cy="947160"/>
            </a:xfrm>
            <a:prstGeom prst="rect">
              <a:avLst/>
            </a:prstGeom>
            <a:noFill/>
            <a:ln cap="sq"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真</a:t>
              </a: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Cap</a:t>
              </a: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血流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增加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0" name="Text Box 14"/>
            <p:cNvSpPr/>
            <p:nvPr/>
          </p:nvSpPr>
          <p:spPr>
            <a:xfrm>
              <a:off x="806040" y="4996080"/>
              <a:ext cx="1460880" cy="947160"/>
            </a:xfrm>
            <a:prstGeom prst="rect">
              <a:avLst/>
            </a:prstGeom>
            <a:solidFill>
              <a:srgbClr val="ffffff"/>
            </a:solidFill>
            <a:ln cap="sq"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局部代谢产物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Arial"/>
                  <a:ea typeface="黑体"/>
                </a:rPr>
                <a:t>及组胺被清除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1015560" y="3459240"/>
              <a:ext cx="2100960" cy="947160"/>
            </a:xfrm>
            <a:prstGeom prst="rect">
              <a:avLst/>
            </a:prstGeom>
            <a:noFill/>
            <a:ln cap="sq"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平滑肌对缩血管物质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的反应性增高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Rectangle 16"/>
            <p:cNvSpPr/>
            <p:nvPr/>
          </p:nvSpPr>
          <p:spPr>
            <a:xfrm>
              <a:off x="5402160" y="514044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←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Rectangle 17"/>
            <p:cNvSpPr/>
            <p:nvPr/>
          </p:nvSpPr>
          <p:spPr>
            <a:xfrm>
              <a:off x="2811600" y="5140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←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1441440" y="4419720"/>
              <a:ext cx="642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Arial"/>
                  <a:ea typeface="黑体"/>
                </a:rPr>
                <a:t>↑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Group 5"/>
          <p:cNvGrpSpPr/>
          <p:nvPr/>
        </p:nvGrpSpPr>
        <p:grpSpPr>
          <a:xfrm>
            <a:off x="755640" y="981000"/>
            <a:ext cx="8064000" cy="5327280"/>
            <a:chOff x="755640" y="981000"/>
            <a:chExt cx="8064000" cy="5327280"/>
          </a:xfrm>
        </p:grpSpPr>
        <p:pic>
          <p:nvPicPr>
            <p:cNvPr id="186" name="Picture 6" descr="图片205"/>
            <p:cNvPicPr/>
            <p:nvPr/>
          </p:nvPicPr>
          <p:blipFill>
            <a:blip r:embed="rId1"/>
            <a:srcRect l="16138" t="5087" r="8264" b="0"/>
            <a:stretch/>
          </p:blipFill>
          <p:spPr>
            <a:xfrm>
              <a:off x="755640" y="981000"/>
              <a:ext cx="8064000" cy="532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" name="Group 7"/>
            <p:cNvGrpSpPr/>
            <p:nvPr/>
          </p:nvGrpSpPr>
          <p:grpSpPr>
            <a:xfrm>
              <a:off x="900000" y="4231440"/>
              <a:ext cx="6322320" cy="1499040"/>
              <a:chOff x="900000" y="4231440"/>
              <a:chExt cx="6322320" cy="1499040"/>
            </a:xfrm>
          </p:grpSpPr>
          <p:sp>
            <p:nvSpPr>
              <p:cNvPr id="188" name="Text Box 8"/>
              <p:cNvSpPr/>
              <p:nvPr/>
            </p:nvSpPr>
            <p:spPr>
              <a:xfrm>
                <a:off x="900000" y="4529880"/>
                <a:ext cx="862920" cy="12006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TXA</a:t>
                </a:r>
                <a:r>
                  <a:rPr b="1" lang="en-US" sz="2000" spc="-1" strike="noStrike" baseline="-25000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ET-1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DF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T</a:t>
                </a:r>
                <a:r>
                  <a:rPr b="1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Line 9"/>
              <p:cNvSpPr/>
              <p:nvPr/>
            </p:nvSpPr>
            <p:spPr>
              <a:xfrm flipV="1">
                <a:off x="1679400" y="4390560"/>
                <a:ext cx="1090800" cy="71532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0" name="Text Box 10"/>
              <p:cNvSpPr/>
              <p:nvPr/>
            </p:nvSpPr>
            <p:spPr>
              <a:xfrm>
                <a:off x="6383520" y="4310280"/>
                <a:ext cx="838800" cy="9061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PGI</a:t>
                </a:r>
                <a:r>
                  <a:rPr b="1" lang="en-US" sz="2000" spc="-1" strike="noStrike" baseline="-25000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NO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TNF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1" name="Line 11"/>
              <p:cNvSpPr/>
              <p:nvPr/>
            </p:nvSpPr>
            <p:spPr>
              <a:xfrm flipH="1" flipV="1">
                <a:off x="4955760" y="4231440"/>
                <a:ext cx="1427760" cy="71532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12"/>
              <p:cNvSpPr/>
              <p:nvPr/>
            </p:nvSpPr>
            <p:spPr>
              <a:xfrm>
                <a:off x="1931040" y="4390920"/>
                <a:ext cx="50076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f5f5f"/>
                    </a:solidFill>
                    <a:latin typeface="Arial"/>
                  </a:rPr>
                  <a:t>(+)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3" name="Text Box 13"/>
              <p:cNvSpPr/>
              <p:nvPr/>
            </p:nvSpPr>
            <p:spPr>
              <a:xfrm>
                <a:off x="5459040" y="4231800"/>
                <a:ext cx="436680" cy="35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5f5f5f"/>
                    </a:solidFill>
                    <a:latin typeface="Arial"/>
                  </a:rPr>
                  <a:t>(-)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7367400" y="533880"/>
            <a:ext cx="1362960" cy="693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. 16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一、微循环机制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66"/>
                </a:solidFill>
                <a:latin typeface="Verdana"/>
              </a:rPr>
              <a:t>以失血性休克为例，将休克病程分为三个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044720" y="4357800"/>
            <a:ext cx="5614560" cy="1506960"/>
            <a:chOff x="1044720" y="4357800"/>
            <a:chExt cx="5614560" cy="1506960"/>
          </a:xfrm>
        </p:grpSpPr>
        <p:sp>
          <p:nvSpPr>
            <p:cNvPr id="198" name=""/>
            <p:cNvSpPr/>
            <p:nvPr/>
          </p:nvSpPr>
          <p:spPr>
            <a:xfrm>
              <a:off x="1044720" y="5222160"/>
              <a:ext cx="5614560" cy="642600"/>
            </a:xfrm>
            <a:prstGeom prst="rect">
              <a:avLst/>
            </a:prstGeom>
            <a:gradFill rotWithShape="0">
              <a:gsLst>
                <a:gs pos="0">
                  <a:srgbClr val="004675"/>
                </a:gs>
                <a:gs pos="50000">
                  <a:srgbClr val="0099ff"/>
                </a:gs>
                <a:gs pos="100000">
                  <a:srgbClr val="004675"/>
                </a:gs>
              </a:gsLst>
              <a:lin ang="5400000"/>
            </a:gradFill>
            <a:ln cap="sq"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休克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III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期（微循环衰竭期）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73080" y="4357800"/>
              <a:ext cx="358200" cy="840240"/>
            </a:xfrm>
            <a:prstGeom prst="downArrow">
              <a:avLst>
                <a:gd name="adj1" fmla="val 50000"/>
                <a:gd name="adj2" fmla="val 58643"/>
              </a:avLst>
            </a:prstGeom>
            <a:solidFill>
              <a:srgbClr val="ffffcc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052640" y="3068640"/>
            <a:ext cx="5606640" cy="1692720"/>
            <a:chOff x="1052640" y="3068640"/>
            <a:chExt cx="5606640" cy="1692720"/>
          </a:xfrm>
        </p:grpSpPr>
        <p:sp>
          <p:nvSpPr>
            <p:cNvPr id="201" name=""/>
            <p:cNvSpPr/>
            <p:nvPr/>
          </p:nvSpPr>
          <p:spPr>
            <a:xfrm>
              <a:off x="1052640" y="4118760"/>
              <a:ext cx="5606640" cy="642600"/>
            </a:xfrm>
            <a:prstGeom prst="rect">
              <a:avLst/>
            </a:prstGeom>
            <a:gradFill rotWithShape="0">
              <a:gsLst>
                <a:gs pos="0">
                  <a:srgbClr val="004675"/>
                </a:gs>
                <a:gs pos="50000">
                  <a:srgbClr val="0099ff"/>
                </a:gs>
                <a:gs pos="100000">
                  <a:srgbClr val="004675"/>
                </a:gs>
              </a:gsLst>
              <a:lin ang="5400000"/>
            </a:gradFill>
            <a:ln cap="sq"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休克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II</a:t>
              </a: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期（瘀血缺氧期）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15560" y="3068640"/>
              <a:ext cx="373680" cy="1014480"/>
            </a:xfrm>
            <a:prstGeom prst="downArrow">
              <a:avLst>
                <a:gd name="adj1" fmla="val 50000"/>
                <a:gd name="adj2" fmla="val 67871"/>
              </a:avLst>
            </a:prstGeom>
            <a:solidFill>
              <a:srgbClr val="ffffcc"/>
            </a:solidFill>
            <a:ln w="93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057320" y="2924280"/>
            <a:ext cx="5602320" cy="642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5400000"/>
          </a:gradFill>
          <a:ln cap="sq"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休克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I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期（缺血缺氧期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7151400" y="749520"/>
            <a:ext cx="1362960" cy="693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. 16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4000" y="1844640"/>
            <a:ext cx="806436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又称：休克早期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黑体"/>
              </a:rPr>
              <a:t>/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代偿期，缺血性缺氧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）微循环变化特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血管痉挛（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vasospasm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）：全身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肌性小血管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都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强烈收缩引起痉挛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。由于受体分布密度不一致，口径缩小程度不一，以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前阻力血管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（前闸门）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收缩更明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395280" y="125280"/>
            <a:ext cx="8353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  <a:ea typeface="黑体"/>
              </a:rPr>
              <a:t>（一）微循环缺血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白求恩大夫(油画)"/>
          <p:cNvPicPr/>
          <p:nvPr/>
        </p:nvPicPr>
        <p:blipFill>
          <a:blip r:embed="rId1"/>
          <a:stretch/>
        </p:blipFill>
        <p:spPr>
          <a:xfrm>
            <a:off x="2195640" y="333360"/>
            <a:ext cx="4608360" cy="5516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036960" y="606744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楷体"/>
                <a:ea typeface="华文楷体"/>
              </a:rPr>
              <a:t>诺尔曼</a:t>
            </a:r>
            <a:r>
              <a:rPr b="1" lang="en-US" sz="2400" spc="-1" strike="noStrike">
                <a:solidFill>
                  <a:srgbClr val="cc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cc0000"/>
                </a:solidFill>
                <a:latin typeface="华文楷体"/>
                <a:ea typeface="华文楷体"/>
              </a:rPr>
              <a:t>白求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" dur="1" fill="hold"/>
                                  <p:tgtEl>
                                    <p:spTgt spid="4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9096-1D5D-4168-ADF9-B6EE01EB61A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微循环A-B"/>
          <p:cNvPicPr/>
          <p:nvPr/>
        </p:nvPicPr>
        <p:blipFill>
          <a:blip r:embed="rId1"/>
          <a:stretch/>
        </p:blipFill>
        <p:spPr>
          <a:xfrm>
            <a:off x="468360" y="620640"/>
            <a:ext cx="8424720" cy="5840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223040" y="5789880"/>
            <a:ext cx="1362960" cy="693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. 16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Verdana"/>
                <a:ea typeface="黑体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Verdana"/>
                <a:ea typeface="黑体"/>
              </a:rPr>
              <a:t>1.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黑体"/>
              </a:rPr>
              <a:t>微循环变化特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684360" y="2924280"/>
            <a:ext cx="2806560" cy="1373760"/>
          </a:xfrm>
          <a:prstGeom prst="rect">
            <a:avLst/>
          </a:prstGeom>
          <a:noFill/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  <a:ea typeface="黑体"/>
              </a:rPr>
              <a:t>1.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总闸门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  <a:ea typeface="黑体"/>
              </a:rPr>
              <a:t>++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  <a:ea typeface="黑体"/>
              </a:rPr>
              <a:t>2.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分闸门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  <a:ea typeface="黑体"/>
              </a:rPr>
              <a:t>+++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  <a:ea typeface="黑体"/>
              </a:rPr>
              <a:t>3.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后闸门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  <a:ea typeface="黑体"/>
              </a:rPr>
              <a:t>++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668400" y="335772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Verdana"/>
                <a:ea typeface="黑体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4282920" y="3338640"/>
            <a:ext cx="4321440" cy="520560"/>
          </a:xfrm>
          <a:prstGeom prst="rect">
            <a:avLst/>
          </a:prstGeom>
          <a:noFill/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Cap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前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阻力＞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Cap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后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阻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2"/>
          <p:cNvSpPr/>
          <p:nvPr/>
        </p:nvSpPr>
        <p:spPr>
          <a:xfrm>
            <a:off x="395280" y="125280"/>
            <a:ext cx="8353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  <a:ea typeface="黑体"/>
              </a:rPr>
              <a:t>（一）微循环缺血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4537080" y="2340000"/>
            <a:ext cx="421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组织灌流特点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少灌少流，灌少于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18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  <a:ea typeface="黑体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  <a:ea typeface="黑体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  <a:ea typeface="黑体"/>
              </a:rPr>
              <a:t>微循环变化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5280" y="1844640"/>
            <a:ext cx="842472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黑体"/>
              </a:rPr>
              <a:t>本期为什么会出现这种变化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黑体"/>
              </a:rPr>
              <a:t>为什么说是机体的一种代偿反应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1042920" y="4724280"/>
            <a:ext cx="6193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黑体"/>
              </a:rPr>
              <a:t>(1)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交感</a:t>
            </a: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黑体"/>
              </a:rPr>
              <a:t>-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肾上腺髓质系统兴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  <a:ea typeface="黑体"/>
              </a:rPr>
              <a:t>(2)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其他所血管体液因子释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6659640" y="3500280"/>
            <a:ext cx="215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神经调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体液调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4971960" y="3860640"/>
            <a:ext cx="11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两种调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6443640" y="400536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16560 h 863640"/>
              <a:gd name="textAreaBottom" fmla="*/ 8470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7"/>
                  <a:pt x="10800" y="1333"/>
                </a:cubicBezTo>
                <a:lnTo>
                  <a:pt x="10800" y="9467"/>
                </a:lnTo>
                <a:cubicBezTo>
                  <a:pt x="10800" y="10134"/>
                  <a:pt x="5400" y="10800"/>
                  <a:pt x="0" y="10800"/>
                </a:cubicBezTo>
                <a:cubicBezTo>
                  <a:pt x="5400" y="10800"/>
                  <a:pt x="10800" y="11467"/>
                  <a:pt x="10800" y="12133"/>
                </a:cubicBezTo>
                <a:lnTo>
                  <a:pt x="10800" y="20267"/>
                </a:lnTo>
                <a:cubicBezTo>
                  <a:pt x="10800" y="2093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280" y="620640"/>
            <a:ext cx="828036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BP↓→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颈动脉窦、主动脉弓压力感受器冲动↓→减压反射受抑制→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（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）交感</a:t>
            </a: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-</a:t>
            </a:r>
            <a:r>
              <a:rPr b="1" lang="zh-CN" sz="3000" spc="-1" strike="noStrike">
                <a:solidFill>
                  <a:srgbClr val="cc0000"/>
                </a:solidFill>
                <a:latin typeface="Verdana"/>
              </a:rPr>
              <a:t>肾上腺髓质系统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兴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2" descr="图片1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92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"/>
          <p:cNvSpPr/>
          <p:nvPr/>
        </p:nvSpPr>
        <p:spPr>
          <a:xfrm>
            <a:off x="755640" y="6021360"/>
            <a:ext cx="80010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不同病因的休克引起交感兴奋的机制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455400" y="5861520"/>
            <a:ext cx="1362960" cy="693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. 16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68360" y="169992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Verdana"/>
              </a:rPr>
              <a:t>(2)</a:t>
            </a:r>
            <a:r>
              <a:rPr b="1" lang="zh-CN" sz="3000" spc="-1" strike="noStrike">
                <a:solidFill>
                  <a:srgbClr val="cc0000"/>
                </a:solidFill>
                <a:latin typeface="Verdana"/>
              </a:rPr>
              <a:t>其他所血管体液因子释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① </a:t>
            </a:r>
            <a:r>
              <a:rPr b="1" lang="en-US" sz="2800" spc="-1" strike="noStrike">
                <a:solidFill>
                  <a:srgbClr val="cc3300"/>
                </a:solidFill>
                <a:latin typeface="Arial"/>
                <a:ea typeface="黑体"/>
              </a:rPr>
              <a:t>CA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（儿茶酚胺）：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大量释放入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Verdana"/>
                <a:ea typeface="黑体"/>
              </a:rPr>
              <a:t>α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黑体"/>
              </a:rPr>
              <a:t>受体效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20000"/>
              </a:lnSpc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3366"/>
                </a:solidFill>
                <a:latin typeface="Verdana"/>
                <a:ea typeface="黑体"/>
              </a:rPr>
              <a:t>β</a:t>
            </a:r>
            <a:r>
              <a:rPr b="1" lang="en-US" sz="2400" spc="-1" strike="noStrike">
                <a:solidFill>
                  <a:srgbClr val="003366"/>
                </a:solidFill>
                <a:latin typeface="Verdana"/>
                <a:ea typeface="黑体"/>
              </a:rPr>
              <a:t>-</a:t>
            </a: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黑体"/>
              </a:rPr>
              <a:t>受体效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②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AngⅡ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（血管紧张素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II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③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VP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（血管升压素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④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TXA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（血栓素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⑤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ET-1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（内皮素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⑥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L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Arial"/>
                <a:ea typeface="黑体"/>
              </a:rPr>
              <a:t>S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（白三烯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250920" y="260280"/>
            <a:ext cx="821844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  <a:ea typeface="黑体"/>
              </a:rPr>
              <a:t>  </a:t>
            </a:r>
            <a:r>
              <a:rPr b="1" lang="en-US" sz="3600" spc="-1" strike="noStrike">
                <a:solidFill>
                  <a:srgbClr val="003366"/>
                </a:solidFill>
                <a:latin typeface="Verdana"/>
                <a:ea typeface="黑体"/>
              </a:rPr>
              <a:t>2. </a:t>
            </a:r>
            <a:r>
              <a:rPr b="1" lang="zh-CN" sz="3600" spc="-1" strike="noStrike">
                <a:solidFill>
                  <a:srgbClr val="003366"/>
                </a:solidFill>
                <a:latin typeface="Verdana"/>
                <a:ea typeface="黑体"/>
              </a:rPr>
              <a:t>微循环变化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微循环A-B"/>
          <p:cNvPicPr/>
          <p:nvPr/>
        </p:nvPicPr>
        <p:blipFill>
          <a:blip r:embed="rId1"/>
          <a:stretch/>
        </p:blipFill>
        <p:spPr>
          <a:xfrm>
            <a:off x="611280" y="642960"/>
            <a:ext cx="813744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18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  <a:ea typeface="黑体"/>
              </a:rPr>
              <a:t>  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  <a:ea typeface="黑体"/>
              </a:rPr>
              <a:t>3. 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  <a:ea typeface="黑体"/>
              </a:rPr>
              <a:t>微循环变化的代偿意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5280" y="1844640"/>
            <a:ext cx="842472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黑体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）有助于动脉血压的维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①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回心血量增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②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心输出量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增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③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外周阻力增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）有助于心脑血液供应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微血管反应的非均一性（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Inhomogeneity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      →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血液重分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5722920" y="2492280"/>
            <a:ext cx="302580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自身输血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 “ 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第一道防线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自身输液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 “ 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第二道防线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结果：</a:t>
            </a: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血液稀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AutoShape 9"/>
          <p:cNvSpPr/>
          <p:nvPr/>
        </p:nvSpPr>
        <p:spPr>
          <a:xfrm>
            <a:off x="5724360" y="2492280"/>
            <a:ext cx="3025800" cy="2232000"/>
          </a:xfrm>
          <a:prstGeom prst="wedgeRectCallout">
            <a:avLst>
              <a:gd name="adj1" fmla="val -100000"/>
              <a:gd name="adj2" fmla="val -34851"/>
            </a:avLst>
          </a:prstGeom>
          <a:noFill/>
          <a:ln w="381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7313400" y="706680"/>
            <a:ext cx="1362960" cy="693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. 17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4360" y="1844640"/>
            <a:ext cx="8001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自身输血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”：当机体有效循环血量减少时，通过神经体液调节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使小静脉和肝、脾储血库收缩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，减少血管床容纳的血量以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增加回心血量和维持动脉血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自身输液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”：在休克早期，由于毛细血管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前阻力大于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毛细血管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后阻力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，导致毛细血管静水压降低，使得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组织液进入毛细血管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，以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增加回心血量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，起到“自身输液”的作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1763640" y="2708280"/>
            <a:ext cx="6337440" cy="1629720"/>
          </a:xfrm>
          <a:prstGeom prst="rect">
            <a:avLst/>
          </a:prstGeom>
          <a:noFill/>
          <a:ln cap="sq"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血管口径</a:t>
            </a:r>
            <a:r>
              <a:rPr b="1" lang="zh-CN" sz="2800" spc="-1" strike="noStrike">
                <a:solidFill>
                  <a:srgbClr val="cc3300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血液流速</a:t>
            </a:r>
            <a:r>
              <a:rPr b="1" lang="zh-CN" sz="2800" spc="-1" strike="noStrike">
                <a:solidFill>
                  <a:srgbClr val="cc3300"/>
                </a:solidFill>
                <a:latin typeface="Symbol"/>
                <a:ea typeface="Symbol"/>
              </a:rPr>
              <a:t>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（线流→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黑体"/>
              </a:rPr>
              <a:t>粒线流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3.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真毛细血管开放数</a:t>
            </a:r>
            <a:r>
              <a:rPr b="1" lang="zh-CN" sz="2800" spc="-1" strike="noStrike">
                <a:solidFill>
                  <a:srgbClr val="cc33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3867840" y="1754280"/>
            <a:ext cx="124740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微循环痉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276720" y="4869000"/>
            <a:ext cx="2879640" cy="1169280"/>
          </a:xfrm>
          <a:prstGeom prst="rect">
            <a:avLst/>
          </a:prstGeom>
          <a:solidFill>
            <a:srgbClr val="ffffff"/>
          </a:solidFill>
          <a:ln w="38160">
            <a:solidFill>
              <a:srgbClr val="1a8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动静脉短路开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黑体"/>
              </a:rPr>
              <a:t>心、脑血供增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4356000" y="2278080"/>
            <a:ext cx="503280" cy="430200"/>
          </a:xfrm>
          <a:prstGeom prst="downArrow">
            <a:avLst>
              <a:gd name="adj1" fmla="val 42583"/>
              <a:gd name="adj2" fmla="val 38375"/>
            </a:avLst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4438800"/>
            <a:ext cx="503280" cy="430200"/>
          </a:xfrm>
          <a:prstGeom prst="downArrow">
            <a:avLst>
              <a:gd name="adj1" fmla="val 42583"/>
              <a:gd name="adj2" fmla="val 38375"/>
            </a:avLst>
          </a:prstGeom>
          <a:solidFill>
            <a:srgbClr val="003366"/>
          </a:solidFill>
          <a:ln w="0">
            <a:noFill/>
          </a:ln>
          <a:effectLst>
            <a:outerShdw dist="17819" dir="2700000" blurRad="0" rotWithShape="0">
              <a:srgbClr val="001e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1549440" y="731880"/>
            <a:ext cx="29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Verdana"/>
              </a:rPr>
              <a:t>）有助于心脑血液供应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18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  <a:ea typeface="黑体"/>
              </a:rPr>
              <a:t> 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  <a:ea typeface="黑体"/>
              </a:rPr>
              <a:t>4. 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  <a:ea typeface="黑体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3"/>
          <p:cNvPicPr/>
          <p:nvPr/>
        </p:nvPicPr>
        <p:blipFill>
          <a:blip r:embed="rId1"/>
          <a:stretch/>
        </p:blipFill>
        <p:spPr>
          <a:xfrm>
            <a:off x="324000" y="1773360"/>
            <a:ext cx="8496000" cy="47512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313400" y="706680"/>
            <a:ext cx="1362960" cy="693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. 17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Verdana"/>
                <a:ea typeface="黑体"/>
              </a:rPr>
              <a:t>案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1844640"/>
            <a:ext cx="8353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Verdana"/>
                <a:ea typeface="黑体"/>
              </a:rPr>
              <a:t>56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个伤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365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一个</a:t>
            </a: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股骨骨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5040" indent="-365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Verdana"/>
                <a:ea typeface="黑体"/>
              </a:rPr>
              <a:t>马上输血抢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Picture 2" descr="m00250"/>
          <p:cNvPicPr/>
          <p:nvPr/>
        </p:nvPicPr>
        <p:blipFill>
          <a:blip r:embed="rId1"/>
          <a:stretch/>
        </p:blipFill>
        <p:spPr>
          <a:xfrm>
            <a:off x="3203640" y="1700280"/>
            <a:ext cx="58690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5562360" cy="337176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343400" y="1600200"/>
            <a:ext cx="129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面色苍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3352680"/>
            <a:ext cx="129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四肢湿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2411280" y="4005360"/>
            <a:ext cx="1067040" cy="366120"/>
          </a:xfrm>
          <a:prstGeom prst="rect">
            <a:avLst/>
          </a:prstGeom>
          <a:solidFill>
            <a:srgbClr val="dddddd">
              <a:alpha val="70000"/>
            </a:srgbClr>
          </a:solidFill>
          <a:ln w="158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方正大黑简体"/>
              </a:rPr>
              <a:t>96/m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581280" y="4038480"/>
            <a:ext cx="381240" cy="76320"/>
          </a:xfrm>
          <a:prstGeom prst="line">
            <a:avLst/>
          </a:prstGeom>
          <a:ln w="158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581280" y="4038120"/>
            <a:ext cx="381240" cy="381240"/>
          </a:xfrm>
          <a:prstGeom prst="line">
            <a:avLst/>
          </a:prstGeom>
          <a:ln w="158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2438280" y="4419720"/>
            <a:ext cx="1371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脉搏细速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7009920" y="3657600"/>
            <a:ext cx="304920" cy="533520"/>
          </a:xfrm>
          <a:prstGeom prst="line">
            <a:avLst/>
          </a:prstGeom>
          <a:ln w="15840">
            <a:solidFill>
              <a:srgbClr val="2b0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886200" y="1828800"/>
            <a:ext cx="457200" cy="228600"/>
          </a:xfrm>
          <a:prstGeom prst="line">
            <a:avLst/>
          </a:prstGeom>
          <a:ln w="15840">
            <a:solidFill>
              <a:srgbClr val="2b05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4797360"/>
            <a:ext cx="129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尿量减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2078640" y="1557360"/>
            <a:ext cx="732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神志清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2708280"/>
            <a:ext cx="2328840" cy="366120"/>
          </a:xfrm>
          <a:prstGeom prst="rect">
            <a:avLst/>
          </a:prstGeom>
          <a:solidFill>
            <a:srgbClr val="dddddd">
              <a:alpha val="70000"/>
            </a:srgbClr>
          </a:solidFill>
          <a:ln w="158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  <a:ea typeface="方正大黑简体"/>
              </a:rPr>
              <a:t>105/85mmH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2819520"/>
            <a:ext cx="380880" cy="304560"/>
          </a:xfrm>
          <a:prstGeom prst="line">
            <a:avLst/>
          </a:prstGeom>
          <a:ln w="158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3124080"/>
            <a:ext cx="380880" cy="0"/>
          </a:xfrm>
          <a:prstGeom prst="line">
            <a:avLst/>
          </a:prstGeom>
          <a:ln w="158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1646640" y="3141720"/>
            <a:ext cx="732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血压略降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黑体"/>
                <a:ea typeface="黑体"/>
              </a:rPr>
              <a:t>脉压减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468360" y="573408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治疗原则：</a:t>
            </a:r>
            <a:r>
              <a:rPr b="1" lang="zh-CN" sz="2800" spc="-1" strike="noStrike">
                <a:solidFill>
                  <a:srgbClr val="cc0000"/>
                </a:solidFill>
                <a:latin typeface="楷体_GB2312"/>
                <a:ea typeface="黑体"/>
              </a:rPr>
              <a:t>消除病因，补充血容量</a:t>
            </a:r>
            <a:r>
              <a:rPr b="1" lang="zh-CN" sz="2800" spc="-1" strike="noStrike">
                <a:solidFill>
                  <a:srgbClr val="003366"/>
                </a:solidFill>
                <a:latin typeface="楷体_GB2312"/>
                <a:ea typeface="黑体"/>
              </a:rPr>
              <a:t>，改善微循环障碍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74200" y="26028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黑体"/>
              </a:rPr>
              <a:t>  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黑体"/>
              </a:rPr>
              <a:t>4. 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黑体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2184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Verdana"/>
                <a:ea typeface="黑体"/>
              </a:rPr>
              <a:t> 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  <a:ea typeface="黑体"/>
              </a:rPr>
              <a:t>5. </a:t>
            </a:r>
            <a:r>
              <a:rPr b="1" lang="zh-CN" sz="4000" spc="-1" strike="noStrike">
                <a:solidFill>
                  <a:srgbClr val="003366"/>
                </a:solidFill>
                <a:latin typeface="Verdana"/>
                <a:ea typeface="黑体"/>
              </a:rPr>
              <a:t>治疗原则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755640" y="1844640"/>
            <a:ext cx="7921800" cy="678600"/>
          </a:xfrm>
          <a:prstGeom prst="rect">
            <a:avLst/>
          </a:prstGeom>
          <a:noFill/>
          <a:ln cap="sq"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尽早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消除休克的动因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cc3300"/>
                </a:solidFill>
                <a:latin typeface="黑体"/>
                <a:ea typeface="黑体"/>
              </a:rPr>
              <a:t>补充血容量</a:t>
            </a: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，防止向休克失代偿期发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1187280" y="4941720"/>
            <a:ext cx="6324480" cy="838080"/>
            <a:chOff x="1187280" y="4941720"/>
            <a:chExt cx="6324480" cy="838080"/>
          </a:xfrm>
        </p:grpSpPr>
        <p:sp>
          <p:nvSpPr>
            <p:cNvPr id="264" name="Line 5"/>
            <p:cNvSpPr/>
            <p:nvPr/>
          </p:nvSpPr>
          <p:spPr>
            <a:xfrm>
              <a:off x="2178000" y="5398920"/>
              <a:ext cx="609480" cy="228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Line 6"/>
            <p:cNvSpPr/>
            <p:nvPr/>
          </p:nvSpPr>
          <p:spPr>
            <a:xfrm flipV="1">
              <a:off x="2765160" y="5474880"/>
              <a:ext cx="838440" cy="2286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Line 7"/>
            <p:cNvSpPr/>
            <p:nvPr/>
          </p:nvSpPr>
          <p:spPr>
            <a:xfrm>
              <a:off x="2101680" y="5564160"/>
              <a:ext cx="685800" cy="152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AutoShape 8"/>
            <p:cNvSpPr/>
            <p:nvPr/>
          </p:nvSpPr>
          <p:spPr>
            <a:xfrm>
              <a:off x="3375000" y="5170320"/>
              <a:ext cx="304560" cy="30492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AutoShape 9"/>
            <p:cNvSpPr/>
            <p:nvPr/>
          </p:nvSpPr>
          <p:spPr>
            <a:xfrm>
              <a:off x="2178000" y="5246640"/>
              <a:ext cx="75960" cy="15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AutoShape 10"/>
            <p:cNvSpPr/>
            <p:nvPr/>
          </p:nvSpPr>
          <p:spPr>
            <a:xfrm>
              <a:off x="2025360" y="5398920"/>
              <a:ext cx="76320" cy="15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0" name="Line 11"/>
            <p:cNvSpPr/>
            <p:nvPr/>
          </p:nvSpPr>
          <p:spPr>
            <a:xfrm>
              <a:off x="5127480" y="5094000"/>
              <a:ext cx="609480" cy="304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Line 12"/>
            <p:cNvSpPr/>
            <p:nvPr/>
          </p:nvSpPr>
          <p:spPr>
            <a:xfrm>
              <a:off x="5051160" y="5246640"/>
              <a:ext cx="685800" cy="228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Line 13"/>
            <p:cNvSpPr/>
            <p:nvPr/>
          </p:nvSpPr>
          <p:spPr>
            <a:xfrm>
              <a:off x="5591160" y="5475240"/>
              <a:ext cx="685800" cy="228600"/>
            </a:xfrm>
            <a:prstGeom prst="line">
              <a:avLst/>
            </a:prstGeom>
            <a:ln cap="sq"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AutoShape 14"/>
            <p:cNvSpPr/>
            <p:nvPr/>
          </p:nvSpPr>
          <p:spPr>
            <a:xfrm>
              <a:off x="6124320" y="5398920"/>
              <a:ext cx="304920" cy="304920"/>
            </a:xfrm>
            <a:prstGeom prst="smileyFace">
              <a:avLst>
                <a:gd name="adj" fmla="val 9282"/>
              </a:avLst>
            </a:prstGeom>
            <a:solidFill>
              <a:srgbClr val="ff00ff"/>
            </a:solidFill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AutoShape 15"/>
            <p:cNvSpPr/>
            <p:nvPr/>
          </p:nvSpPr>
          <p:spPr>
            <a:xfrm>
              <a:off x="4975200" y="5094000"/>
              <a:ext cx="75960" cy="15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AutoShape 16"/>
            <p:cNvSpPr/>
            <p:nvPr/>
          </p:nvSpPr>
          <p:spPr>
            <a:xfrm>
              <a:off x="5051160" y="4941720"/>
              <a:ext cx="76320" cy="15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noFill/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Oval 17"/>
            <p:cNvSpPr/>
            <p:nvPr/>
          </p:nvSpPr>
          <p:spPr>
            <a:xfrm>
              <a:off x="5661000" y="5322600"/>
              <a:ext cx="457200" cy="22860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Oval 18"/>
            <p:cNvSpPr/>
            <p:nvPr/>
          </p:nvSpPr>
          <p:spPr>
            <a:xfrm>
              <a:off x="2689200" y="5398920"/>
              <a:ext cx="533160" cy="228600"/>
            </a:xfrm>
            <a:prstGeom prst="ellipse">
              <a:avLst/>
            </a:prstGeom>
            <a:solidFill>
              <a:srgbClr val="ff00ff"/>
            </a:solidFill>
            <a:ln cap="sq"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8" name="Line 19"/>
            <p:cNvSpPr/>
            <p:nvPr/>
          </p:nvSpPr>
          <p:spPr>
            <a:xfrm>
              <a:off x="1187280" y="5779800"/>
              <a:ext cx="6324480" cy="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79" name="Text Box 20"/>
          <p:cNvSpPr/>
          <p:nvPr/>
        </p:nvSpPr>
        <p:spPr>
          <a:xfrm>
            <a:off x="1116000" y="3933720"/>
            <a:ext cx="15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Verdana"/>
                <a:ea typeface="黑体"/>
              </a:rPr>
              <a:t>体位</a:t>
            </a:r>
            <a:r>
              <a:rPr b="1" lang="en-US" sz="4000" spc="-1" strike="noStrike">
                <a:solidFill>
                  <a:srgbClr val="cc0000"/>
                </a:solidFill>
                <a:latin typeface="Verdana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292720" y="3213000"/>
            <a:ext cx="346716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Verdana"/>
                <a:ea typeface="黑体"/>
              </a:rPr>
              <a:t>问题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4000" y="1844640"/>
            <a:ext cx="81356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1.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白求恩为什么不处理其他病人而先处理骨折病人？并且不先处理骨折，而急于给伤员输血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-361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  <a:ea typeface="黑体"/>
              </a:rPr>
              <a:t>2. </a:t>
            </a: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黑体"/>
              </a:rPr>
              <a:t>白求恩为什么认为这个伤员发生了休克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WordArt 2"/>
          <p:cNvSpPr txBox="1"/>
          <p:nvPr/>
        </p:nvSpPr>
        <p:spPr>
          <a:xfrm>
            <a:off x="3995640" y="4292640"/>
            <a:ext cx="9352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Verdana"/>
                <a:ea typeface="黑体"/>
              </a:rPr>
              <a:t>股骨骨折失血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790560" y="1844640"/>
            <a:ext cx="835344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13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面色苍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5040" indent="-365040">
              <a:lnSpc>
                <a:spcPct val="13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脉搏细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5040" indent="-365040">
              <a:lnSpc>
                <a:spcPct val="13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出冷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5040" indent="-365040">
              <a:lnSpc>
                <a:spcPct val="13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前额湿冷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5040" indent="-365040">
              <a:lnSpc>
                <a:spcPct val="13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黑体"/>
                <a:ea typeface="黑体"/>
              </a:rPr>
              <a:t>昏迷不醒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37450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7785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Verdana"/>
                <a:ea typeface="黑体"/>
              </a:rPr>
              <a:t>定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280" y="1844640"/>
            <a:ext cx="806436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lnSpc>
                <a:spcPct val="150000"/>
              </a:lnSpc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黑体"/>
              </a:rPr>
              <a:t>休克是指机体在严重失血失液、感染、创伤等强烈</a:t>
            </a: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黑体"/>
              </a:rPr>
              <a:t>致病因素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黑体"/>
              </a:rPr>
              <a:t>作用下，</a:t>
            </a: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黑体"/>
              </a:rPr>
              <a:t>有效循环血量急剧减少、组织血液灌流量严重不足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黑体"/>
              </a:rPr>
              <a:t>，引起组织细胞缺血、缺氧、各重要生命器官的功能、代谢障碍及结构损伤的</a:t>
            </a: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黑体"/>
              </a:rPr>
              <a:t>病理过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7080120" y="676440"/>
            <a:ext cx="1362960" cy="693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. 16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维持机体</a:t>
            </a:r>
            <a:r>
              <a:rPr b="1" lang="zh-CN" sz="4000" spc="-1" strike="noStrike">
                <a:solidFill>
                  <a:srgbClr val="cc3300"/>
                </a:solidFill>
                <a:latin typeface="黑体"/>
                <a:ea typeface="黑体"/>
              </a:rPr>
              <a:t>有效循环血量</a:t>
            </a: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的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0" name="组合 21"/>
          <p:cNvGrpSpPr/>
          <p:nvPr/>
        </p:nvGrpSpPr>
        <p:grpSpPr>
          <a:xfrm>
            <a:off x="539640" y="1773360"/>
            <a:ext cx="8367120" cy="4319640"/>
            <a:chOff x="539640" y="1773360"/>
            <a:chExt cx="8367120" cy="4319640"/>
          </a:xfrm>
        </p:grpSpPr>
        <p:grpSp>
          <p:nvGrpSpPr>
            <p:cNvPr id="61" name="Group 12"/>
            <p:cNvGrpSpPr/>
            <p:nvPr/>
          </p:nvGrpSpPr>
          <p:grpSpPr>
            <a:xfrm>
              <a:off x="6854400" y="2069280"/>
              <a:ext cx="2052360" cy="3524040"/>
              <a:chOff x="6854400" y="2069280"/>
              <a:chExt cx="2052360" cy="3524040"/>
            </a:xfrm>
          </p:grpSpPr>
          <p:sp>
            <p:nvSpPr>
              <p:cNvPr id="62" name="Line 13"/>
              <p:cNvSpPr/>
              <p:nvPr/>
            </p:nvSpPr>
            <p:spPr>
              <a:xfrm>
                <a:off x="6854400" y="2490480"/>
                <a:ext cx="1005840" cy="41076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Line 14"/>
              <p:cNvSpPr/>
              <p:nvPr/>
            </p:nvSpPr>
            <p:spPr>
              <a:xfrm>
                <a:off x="7135560" y="4026960"/>
                <a:ext cx="652680" cy="144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Line 15"/>
              <p:cNvSpPr/>
              <p:nvPr/>
            </p:nvSpPr>
            <p:spPr>
              <a:xfrm flipV="1">
                <a:off x="7203240" y="4926600"/>
                <a:ext cx="813960" cy="277560"/>
              </a:xfrm>
              <a:prstGeom prst="line">
                <a:avLst/>
              </a:prstGeom>
              <a:ln w="57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Oval 16"/>
              <p:cNvSpPr/>
              <p:nvPr/>
            </p:nvSpPr>
            <p:spPr>
              <a:xfrm>
                <a:off x="7788240" y="2069280"/>
                <a:ext cx="1077480" cy="3524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" name="Text Box 17"/>
              <p:cNvSpPr/>
              <p:nvPr/>
            </p:nvSpPr>
            <p:spPr>
              <a:xfrm>
                <a:off x="7873200" y="2781360"/>
                <a:ext cx="1033560" cy="230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3366"/>
                    </a:solidFill>
                    <a:latin typeface="黑体"/>
                    <a:ea typeface="黑体"/>
                  </a:rPr>
                  <a:t>正常血液循环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67" name="Picture 3" descr="体循环和肺循环"/>
            <p:cNvPicPr/>
            <p:nvPr/>
          </p:nvPicPr>
          <p:blipFill>
            <a:blip r:embed="rId1"/>
            <a:stretch/>
          </p:blipFill>
          <p:spPr>
            <a:xfrm>
              <a:off x="539640" y="1773360"/>
              <a:ext cx="3376800" cy="4319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4"/>
            <p:cNvGrpSpPr/>
            <p:nvPr/>
          </p:nvGrpSpPr>
          <p:grpSpPr>
            <a:xfrm>
              <a:off x="3256200" y="2185560"/>
              <a:ext cx="3600720" cy="592200"/>
              <a:chOff x="3256200" y="2185560"/>
              <a:chExt cx="3600720" cy="592200"/>
            </a:xfrm>
          </p:grpSpPr>
          <p:sp>
            <p:nvSpPr>
              <p:cNvPr id="69" name="Line 5"/>
              <p:cNvSpPr/>
              <p:nvPr/>
            </p:nvSpPr>
            <p:spPr>
              <a:xfrm flipV="1">
                <a:off x="3256200" y="2644200"/>
                <a:ext cx="1019160" cy="133560"/>
              </a:xfrm>
              <a:prstGeom prst="line">
                <a:avLst/>
              </a:prstGeom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Text Box 6"/>
              <p:cNvSpPr/>
              <p:nvPr/>
            </p:nvSpPr>
            <p:spPr>
              <a:xfrm>
                <a:off x="4275360" y="2185560"/>
                <a:ext cx="2581560" cy="520560"/>
              </a:xfrm>
              <a:prstGeom prst="rect">
                <a:avLst/>
              </a:prstGeom>
              <a:noFill/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3366"/>
                    </a:solidFill>
                    <a:latin typeface="黑体"/>
                    <a:ea typeface="黑体"/>
                  </a:rPr>
                  <a:t>血容量充足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" name="Group 7"/>
            <p:cNvGrpSpPr/>
            <p:nvPr/>
          </p:nvGrpSpPr>
          <p:grpSpPr>
            <a:xfrm>
              <a:off x="2440440" y="3732840"/>
              <a:ext cx="4752360" cy="520560"/>
              <a:chOff x="2440440" y="3732840"/>
              <a:chExt cx="4752360" cy="520560"/>
            </a:xfrm>
          </p:grpSpPr>
          <p:sp>
            <p:nvSpPr>
              <p:cNvPr id="72" name="Line 8"/>
              <p:cNvSpPr/>
              <p:nvPr/>
            </p:nvSpPr>
            <p:spPr>
              <a:xfrm>
                <a:off x="2440440" y="4120560"/>
                <a:ext cx="1706040" cy="0"/>
              </a:xfrm>
              <a:prstGeom prst="line">
                <a:avLst/>
              </a:prstGeom>
              <a:ln w="5724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Text Box 9"/>
              <p:cNvSpPr/>
              <p:nvPr/>
            </p:nvSpPr>
            <p:spPr>
              <a:xfrm>
                <a:off x="4146480" y="3732840"/>
                <a:ext cx="3046320" cy="520560"/>
              </a:xfrm>
              <a:prstGeom prst="rect">
                <a:avLst/>
              </a:prstGeom>
              <a:noFill/>
              <a:ln w="9360">
                <a:solidFill>
                  <a:srgbClr val="33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3366"/>
                    </a:solidFill>
                    <a:latin typeface="黑体"/>
                    <a:ea typeface="黑体"/>
                  </a:rPr>
                  <a:t>心泵功能正常</a:t>
                </a:r>
                <a:endParaRPr b="0" lang="en-US" sz="2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4" name="Line 10"/>
            <p:cNvSpPr/>
            <p:nvPr/>
          </p:nvSpPr>
          <p:spPr>
            <a:xfrm flipV="1">
              <a:off x="2509200" y="5323320"/>
              <a:ext cx="1631520" cy="15480"/>
            </a:xfrm>
            <a:prstGeom prst="line">
              <a:avLst/>
            </a:prstGeom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Text Box 11"/>
            <p:cNvSpPr/>
            <p:nvPr/>
          </p:nvSpPr>
          <p:spPr>
            <a:xfrm>
              <a:off x="4138560" y="5022360"/>
              <a:ext cx="3054240" cy="520560"/>
            </a:xfrm>
            <a:prstGeom prst="rect">
              <a:avLst/>
            </a:prstGeom>
            <a:noFill/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黑体"/>
                  <a:ea typeface="黑体"/>
                </a:rPr>
                <a:t>血管床容量正常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  <a:ea typeface="黑体"/>
              </a:rPr>
              <a:t>休克发生的共同基础：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黑体"/>
              </a:rPr>
              <a:t>有效循环血量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0920" y="1844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三个因素决定有效循环血量和组织灌流量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黑体"/>
              </a:rPr>
              <a:t>1.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足够的血容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黑体"/>
              </a:rPr>
              <a:t>2.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正常的血管舒缩功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黑体"/>
              </a:rPr>
              <a:t>3.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黑体"/>
              </a:rPr>
              <a:t>正常的心泵功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1763640" y="5084640"/>
            <a:ext cx="40338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黑体"/>
              </a:rPr>
              <a:t>休克的始动环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Verdana"/>
                <a:ea typeface="黑体"/>
              </a:rPr>
              <a:t>休克发生的共同基础：</a:t>
            </a:r>
            <a:r>
              <a:rPr b="1" lang="zh-CN" sz="3600" spc="-1" strike="noStrike">
                <a:solidFill>
                  <a:srgbClr val="cc0000"/>
                </a:solidFill>
                <a:latin typeface="Verdana"/>
                <a:ea typeface="黑体"/>
              </a:rPr>
              <a:t>有效循环血量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0" name="Group 46"/>
          <p:cNvGrpSpPr/>
          <p:nvPr/>
        </p:nvGrpSpPr>
        <p:grpSpPr>
          <a:xfrm>
            <a:off x="971640" y="1628640"/>
            <a:ext cx="6697080" cy="4608360"/>
            <a:chOff x="971640" y="1628640"/>
            <a:chExt cx="6697080" cy="4608360"/>
          </a:xfrm>
        </p:grpSpPr>
        <p:grpSp>
          <p:nvGrpSpPr>
            <p:cNvPr id="81" name="Group 47"/>
            <p:cNvGrpSpPr/>
            <p:nvPr/>
          </p:nvGrpSpPr>
          <p:grpSpPr>
            <a:xfrm>
              <a:off x="971640" y="1628640"/>
              <a:ext cx="6697080" cy="1433520"/>
              <a:chOff x="971640" y="1628640"/>
              <a:chExt cx="6697080" cy="1433520"/>
            </a:xfrm>
          </p:grpSpPr>
          <p:grpSp>
            <p:nvGrpSpPr>
              <p:cNvPr id="82" name="Group 48"/>
              <p:cNvGrpSpPr/>
              <p:nvPr/>
            </p:nvGrpSpPr>
            <p:grpSpPr>
              <a:xfrm>
                <a:off x="971640" y="1628640"/>
                <a:ext cx="6697080" cy="679680"/>
                <a:chOff x="971640" y="1628640"/>
                <a:chExt cx="6697080" cy="679680"/>
              </a:xfrm>
            </p:grpSpPr>
            <p:sp>
              <p:nvSpPr>
                <p:cNvPr id="83" name="Text Box 49"/>
                <p:cNvSpPr/>
                <p:nvPr/>
              </p:nvSpPr>
              <p:spPr>
                <a:xfrm>
                  <a:off x="6287400" y="1628640"/>
                  <a:ext cx="13813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3366"/>
                      </a:solidFill>
                      <a:latin typeface="黑体"/>
                      <a:ea typeface="黑体"/>
                    </a:rPr>
                    <a:t>心脏或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3366"/>
                      </a:solidFill>
                      <a:latin typeface="黑体"/>
                      <a:ea typeface="黑体"/>
                    </a:rPr>
                    <a:t>心包病变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4" name="Text Box 50"/>
                <p:cNvSpPr/>
                <p:nvPr/>
              </p:nvSpPr>
              <p:spPr>
                <a:xfrm>
                  <a:off x="971640" y="1668960"/>
                  <a:ext cx="132948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3366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zh-CN" sz="1800" spc="-1" strike="noStrike">
                      <a:solidFill>
                        <a:srgbClr val="003366"/>
                      </a:solidFill>
                      <a:latin typeface="黑体"/>
                      <a:ea typeface="黑体"/>
                    </a:rPr>
                    <a:t>失血失液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3366"/>
                      </a:solidFill>
                      <a:latin typeface="黑体"/>
                      <a:ea typeface="黑体"/>
                    </a:rPr>
                    <a:t>烧伤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5" name="Text Box 51"/>
                <p:cNvSpPr/>
                <p:nvPr/>
              </p:nvSpPr>
              <p:spPr>
                <a:xfrm>
                  <a:off x="2506320" y="1776240"/>
                  <a:ext cx="767880" cy="39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3366"/>
                      </a:solidFill>
                      <a:latin typeface="黑体"/>
                      <a:ea typeface="黑体"/>
                    </a:rPr>
                    <a:t>创伤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6" name="Text Box 52"/>
                <p:cNvSpPr/>
                <p:nvPr/>
              </p:nvSpPr>
              <p:spPr>
                <a:xfrm>
                  <a:off x="4572720" y="1660320"/>
                  <a:ext cx="1793880" cy="47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3366"/>
                      </a:solidFill>
                      <a:latin typeface="黑体"/>
                      <a:ea typeface="黑体"/>
                    </a:rPr>
                    <a:t>过敏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3366"/>
                      </a:solidFill>
                      <a:latin typeface="黑体"/>
                      <a:ea typeface="黑体"/>
                    </a:rPr>
                    <a:t>脊髓麻醉或损伤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87" name="Text Box 53"/>
                <p:cNvSpPr/>
                <p:nvPr/>
              </p:nvSpPr>
              <p:spPr>
                <a:xfrm>
                  <a:off x="3869640" y="1774800"/>
                  <a:ext cx="718920" cy="40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3366"/>
                      </a:solidFill>
                      <a:latin typeface="黑体"/>
                      <a:ea typeface="黑体"/>
                    </a:rPr>
                    <a:t>感染</a:t>
                  </a: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88" name="Line 54"/>
              <p:cNvSpPr/>
              <p:nvPr/>
            </p:nvSpPr>
            <p:spPr>
              <a:xfrm>
                <a:off x="1693440" y="2221560"/>
                <a:ext cx="0" cy="810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Line 55"/>
              <p:cNvSpPr/>
              <p:nvPr/>
            </p:nvSpPr>
            <p:spPr>
              <a:xfrm>
                <a:off x="4214880" y="2763720"/>
                <a:ext cx="0" cy="298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Line 56"/>
              <p:cNvSpPr/>
              <p:nvPr/>
            </p:nvSpPr>
            <p:spPr>
              <a:xfrm>
                <a:off x="5515200" y="2242800"/>
                <a:ext cx="0" cy="3560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Line 57"/>
              <p:cNvSpPr/>
              <p:nvPr/>
            </p:nvSpPr>
            <p:spPr>
              <a:xfrm>
                <a:off x="1980000" y="2639520"/>
                <a:ext cx="0" cy="397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Line 58"/>
              <p:cNvSpPr/>
              <p:nvPr/>
            </p:nvSpPr>
            <p:spPr>
              <a:xfrm>
                <a:off x="2193120" y="2774520"/>
                <a:ext cx="1554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3" name="Line 59"/>
              <p:cNvSpPr/>
              <p:nvPr/>
            </p:nvSpPr>
            <p:spPr>
              <a:xfrm>
                <a:off x="2183040" y="2776680"/>
                <a:ext cx="0" cy="250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4" name="Line 60"/>
              <p:cNvSpPr/>
              <p:nvPr/>
            </p:nvSpPr>
            <p:spPr>
              <a:xfrm>
                <a:off x="1980000" y="2625840"/>
                <a:ext cx="1842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5" name="Line 61"/>
              <p:cNvSpPr/>
              <p:nvPr/>
            </p:nvSpPr>
            <p:spPr>
              <a:xfrm>
                <a:off x="6267240" y="2776680"/>
                <a:ext cx="0" cy="245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Text Box 62"/>
              <p:cNvSpPr/>
              <p:nvPr/>
            </p:nvSpPr>
            <p:spPr>
              <a:xfrm>
                <a:off x="3574800" y="2608200"/>
                <a:ext cx="51804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66"/>
                    </a:solidFill>
                    <a:latin typeface="黑体"/>
                    <a:ea typeface="黑体"/>
                  </a:rPr>
                  <a:t> ⌒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Text Box 63"/>
              <p:cNvSpPr/>
              <p:nvPr/>
            </p:nvSpPr>
            <p:spPr>
              <a:xfrm>
                <a:off x="4306320" y="2612880"/>
                <a:ext cx="51804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3366"/>
                    </a:solidFill>
                    <a:latin typeface="黑体"/>
                    <a:ea typeface="黑体"/>
                  </a:rPr>
                  <a:t> ⌒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Line 64"/>
              <p:cNvSpPr/>
              <p:nvPr/>
            </p:nvSpPr>
            <p:spPr>
              <a:xfrm>
                <a:off x="3910320" y="2785680"/>
                <a:ext cx="5565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Line 65"/>
              <p:cNvSpPr/>
              <p:nvPr/>
            </p:nvSpPr>
            <p:spPr>
              <a:xfrm>
                <a:off x="4560480" y="2610720"/>
                <a:ext cx="9597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Line 66"/>
              <p:cNvSpPr/>
              <p:nvPr/>
            </p:nvSpPr>
            <p:spPr>
              <a:xfrm>
                <a:off x="6703920" y="2274120"/>
                <a:ext cx="0" cy="730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Line 67"/>
              <p:cNvSpPr/>
              <p:nvPr/>
            </p:nvSpPr>
            <p:spPr>
              <a:xfrm>
                <a:off x="2894400" y="2242800"/>
                <a:ext cx="0" cy="3805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Line 68"/>
              <p:cNvSpPr/>
              <p:nvPr/>
            </p:nvSpPr>
            <p:spPr>
              <a:xfrm>
                <a:off x="4641840" y="2777400"/>
                <a:ext cx="16142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3" name="Line 69"/>
              <p:cNvSpPr/>
              <p:nvPr/>
            </p:nvSpPr>
            <p:spPr>
              <a:xfrm>
                <a:off x="4204800" y="2231640"/>
                <a:ext cx="0" cy="5518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4" name="Group 70"/>
            <p:cNvGrpSpPr/>
            <p:nvPr/>
          </p:nvGrpSpPr>
          <p:grpSpPr>
            <a:xfrm>
              <a:off x="1116000" y="2619000"/>
              <a:ext cx="6315840" cy="3618000"/>
              <a:chOff x="1116000" y="2619000"/>
              <a:chExt cx="6315840" cy="3618000"/>
            </a:xfrm>
          </p:grpSpPr>
          <p:sp>
            <p:nvSpPr>
              <p:cNvPr id="105" name="Line 71"/>
              <p:cNvSpPr/>
              <p:nvPr/>
            </p:nvSpPr>
            <p:spPr>
              <a:xfrm>
                <a:off x="3818880" y="2634840"/>
                <a:ext cx="0" cy="392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Line 72"/>
              <p:cNvSpPr/>
              <p:nvPr/>
            </p:nvSpPr>
            <p:spPr>
              <a:xfrm>
                <a:off x="4560480" y="2619000"/>
                <a:ext cx="0" cy="4316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Text Box 73"/>
              <p:cNvSpPr/>
              <p:nvPr/>
            </p:nvSpPr>
            <p:spPr>
              <a:xfrm>
                <a:off x="3904200" y="5764320"/>
                <a:ext cx="6580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66"/>
                    </a:solidFill>
                    <a:latin typeface="黑体"/>
                    <a:ea typeface="黑体"/>
                  </a:rPr>
                  <a:t>休克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Text Box 74"/>
              <p:cNvSpPr/>
              <p:nvPr/>
            </p:nvSpPr>
            <p:spPr>
              <a:xfrm>
                <a:off x="3420000" y="5157360"/>
                <a:ext cx="1707120" cy="374400"/>
              </a:xfrm>
              <a:prstGeom prst="rect">
                <a:avLst/>
              </a:prstGeom>
              <a:solidFill>
                <a:srgbClr val="cc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cc0000"/>
                    </a:solidFill>
                    <a:latin typeface="黑体"/>
                    <a:ea typeface="黑体"/>
                  </a:rPr>
                  <a:t>微循环功能障碍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Text Box 75"/>
              <p:cNvSpPr/>
              <p:nvPr/>
            </p:nvSpPr>
            <p:spPr>
              <a:xfrm>
                <a:off x="1116000" y="3058920"/>
                <a:ext cx="1215000" cy="3697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3366"/>
                    </a:solidFill>
                    <a:latin typeface="黑体"/>
                    <a:ea typeface="黑体"/>
                  </a:rPr>
                  <a:t>血容量减少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Text Box 76"/>
              <p:cNvSpPr/>
              <p:nvPr/>
            </p:nvSpPr>
            <p:spPr>
              <a:xfrm>
                <a:off x="3420000" y="3069720"/>
                <a:ext cx="1656360" cy="3592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just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3366"/>
                    </a:solidFill>
                    <a:latin typeface="黑体"/>
                    <a:ea typeface="黑体"/>
                  </a:rPr>
                  <a:t>血管床容量增加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Text Box 77"/>
              <p:cNvSpPr/>
              <p:nvPr/>
            </p:nvSpPr>
            <p:spPr>
              <a:xfrm>
                <a:off x="5940720" y="3036240"/>
                <a:ext cx="1491120" cy="39276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3366"/>
                    </a:solidFill>
                    <a:latin typeface="黑体"/>
                    <a:ea typeface="黑体"/>
                  </a:rPr>
                  <a:t>心泵功能障碍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Line 78"/>
              <p:cNvSpPr/>
              <p:nvPr/>
            </p:nvSpPr>
            <p:spPr>
              <a:xfrm>
                <a:off x="4235400" y="4880880"/>
                <a:ext cx="0" cy="2617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Line 79"/>
              <p:cNvSpPr/>
              <p:nvPr/>
            </p:nvSpPr>
            <p:spPr>
              <a:xfrm flipH="1">
                <a:off x="4232880" y="5610960"/>
                <a:ext cx="1800" cy="244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Line 80"/>
              <p:cNvSpPr/>
              <p:nvPr/>
            </p:nvSpPr>
            <p:spPr>
              <a:xfrm>
                <a:off x="4235400" y="3479760"/>
                <a:ext cx="0" cy="264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Line 81"/>
              <p:cNvSpPr/>
              <p:nvPr/>
            </p:nvSpPr>
            <p:spPr>
              <a:xfrm>
                <a:off x="6724440" y="3479760"/>
                <a:ext cx="0" cy="83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Line 82"/>
              <p:cNvSpPr/>
              <p:nvPr/>
            </p:nvSpPr>
            <p:spPr>
              <a:xfrm>
                <a:off x="1695600" y="4311360"/>
                <a:ext cx="1930320" cy="5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Line 83"/>
              <p:cNvSpPr/>
              <p:nvPr/>
            </p:nvSpPr>
            <p:spPr>
              <a:xfrm>
                <a:off x="1715760" y="3468600"/>
                <a:ext cx="0" cy="8312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Line 84"/>
              <p:cNvSpPr/>
              <p:nvPr/>
            </p:nvSpPr>
            <p:spPr>
              <a:xfrm flipH="1">
                <a:off x="4844880" y="4307760"/>
                <a:ext cx="1869120" cy="3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9" name="Group 85"/>
              <p:cNvGrpSpPr/>
              <p:nvPr/>
            </p:nvGrpSpPr>
            <p:grpSpPr>
              <a:xfrm>
                <a:off x="3625920" y="3735720"/>
                <a:ext cx="1266840" cy="1187640"/>
                <a:chOff x="3625920" y="3735720"/>
                <a:chExt cx="1266840" cy="1187640"/>
              </a:xfrm>
            </p:grpSpPr>
            <p:sp>
              <p:nvSpPr>
                <p:cNvPr id="120" name="Oval 86"/>
                <p:cNvSpPr/>
                <p:nvPr/>
              </p:nvSpPr>
              <p:spPr>
                <a:xfrm>
                  <a:off x="3625920" y="3735720"/>
                  <a:ext cx="1218960" cy="1187640"/>
                </a:xfrm>
                <a:prstGeom prst="ellipse">
                  <a:avLst/>
                </a:prstGeom>
                <a:solidFill>
                  <a:srgbClr val="cc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Text Box 87"/>
                <p:cNvSpPr/>
                <p:nvPr/>
              </p:nvSpPr>
              <p:spPr>
                <a:xfrm>
                  <a:off x="3636000" y="3988440"/>
                  <a:ext cx="1256760" cy="69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有效循环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cc0000"/>
                      </a:solidFill>
                      <a:latin typeface="黑体"/>
                      <a:ea typeface="黑体"/>
                    </a:rPr>
                    <a:t>血量减少</a:t>
                  </a:r>
                  <a:endParaRPr b="0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2" name=""/>
          <p:cNvSpPr/>
          <p:nvPr/>
        </p:nvSpPr>
        <p:spPr>
          <a:xfrm>
            <a:off x="7007040" y="5358240"/>
            <a:ext cx="1362960" cy="693360"/>
          </a:xfrm>
          <a:prstGeom prst="bevel">
            <a:avLst>
              <a:gd name="adj" fmla="val 12500"/>
            </a:avLst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. 16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9T07:57:05Z</dcterms:created>
  <dc:creator/>
  <dc:description/>
  <dc:language>en-US</dc:language>
  <cp:lastModifiedBy>dell</cp:lastModifiedBy>
  <dcterms:modified xsi:type="dcterms:W3CDTF">2016-11-16T05:19:53Z</dcterms:modified>
  <cp:revision>320</cp:revision>
  <dc:subject/>
  <dc:title>13 休克</dc:title>
</cp:coreProperties>
</file>